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200A-72D7-4919-A37F-1DBBB49E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006-B243-4720-A9A4-C4C4FC3C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FC3-377D-4C7B-9208-57947DB5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3A0-1A88-4A92-8A94-2F1F6AAF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2F5-86FF-4810-99E9-6546090F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683-4808-49F0-A1BF-87C24AC8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E66-A103-447D-906F-D4D30C54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43A-C4F4-46EB-9998-0E43C4E9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0F8-F07F-4879-8009-B2E4BEC9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02F-B0C5-4AD7-AD50-67D373F3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E7E-B3FF-4AA1-9D2D-D6EC963A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267-2D88-43A4-B043-BF6855A9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A7EA-6B3F-4F3F-AD89-D9E42D28D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zazio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340056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71640" y="2205000"/>
            <a:ext cx="28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00200">
            <a:off x="394920" y="981000"/>
            <a:ext cx="2522520" cy="1656000"/>
          </a:xfrm>
          <a:prstGeom prst="rightArrow">
            <a:avLst>
              <a:gd name="adj1" fmla="val 50000"/>
              <a:gd name="adj2" fmla="val 380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IGLIORAMENT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ZZ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 TRASPO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817000">
            <a:off x="468000" y="3068280"/>
            <a:ext cx="2519280" cy="1655640"/>
          </a:xfrm>
          <a:prstGeom prst="rightArrow">
            <a:avLst>
              <a:gd name="adj1" fmla="val 50000"/>
              <a:gd name="adj2" fmla="val 38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ZZ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 COMUN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364000" y="1700280"/>
            <a:ext cx="1584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4360" y="1197000"/>
            <a:ext cx="12952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d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51640" y="2708280"/>
            <a:ext cx="1512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2637000"/>
            <a:ext cx="1368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ili di v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ù sim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77080" y="4292640"/>
            <a:ext cx="13669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mer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2720" y="2997360"/>
            <a:ext cx="15112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360" y="3429000"/>
            <a:ext cx="1513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pers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4653000"/>
            <a:ext cx="2160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mmigrazion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itta’ multicul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4036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4221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8:47Z</dcterms:created>
  <dc:creator>studente</dc:creator>
  <dc:description/>
  <dc:language>en-US</dc:language>
  <cp:lastModifiedBy>studente</cp:lastModifiedBy>
  <dcterms:modified xsi:type="dcterms:W3CDTF">2017-01-09T10:00:41Z</dcterms:modified>
  <cp:revision>15</cp:revision>
  <dc:subject/>
  <dc:title>Diapositiva 1</dc:title>
</cp:coreProperties>
</file>